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EB4754-EC66-4B15-B8E5-631E48C010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E7F357-0E5F-41A6-BA81-7EB9D6BC4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0A3DCE-3472-480D-BA27-16ED6152E6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CE8733-45A4-4AEB-9568-049C6A5A8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D8D8EA-B8CA-4BCF-A2E1-CA5BC179D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F9E03B-513F-4548-82DD-8C908945A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8C5BAF-ADEF-4672-8D2D-8DC525F7B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6051DFD-ED8A-45AF-AA88-EB574DA412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34A262-DB9A-4D51-B9F7-B9E9386A8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EB2635-7B77-4E7D-9729-0C8CEE262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5202B6-6718-4C20-8F11-1FB97CD2C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C21BBF-7797-47B3-BBDF-69E3F8A50B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1285-3D43-4233-8815-80949530725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50CE-0564-46F4-89CE-8DB9B1DDC506}" type="datetime">
              <a:rPr b="0" lang="zh-CN" sz="1400" spc="-1" strike="noStrike">
                <a:solidFill>
                  <a:srgbClr val="046ca6"/>
                </a:solidFill>
                <a:latin typeface="Times New Roman"/>
                <a:ea typeface="宋体"/>
              </a:rPr>
              <a:t>26/7/28</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BBC8-0AC1-4338-94B7-4E3000BC73D7}" type="datetime">
              <a:rPr b="0" lang="zh-CN" sz="1400" spc="-1" strike="noStrike">
                <a:solidFill>
                  <a:srgbClr val="046ca6"/>
                </a:solidFill>
                <a:latin typeface="Times New Roman"/>
                <a:ea typeface="宋体"/>
              </a:rPr>
              <a:t>26/7/28</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BFD7-4C32-4490-B71A-024A4F976A45}" type="datetime">
              <a:rPr b="0" lang="zh-CN" sz="1400" spc="-1" strike="noStrike">
                <a:solidFill>
                  <a:srgbClr val="046ca6"/>
                </a:solidFill>
                <a:latin typeface="Times New Roman"/>
                <a:ea typeface="宋体"/>
              </a:rPr>
              <a:t>26/7/28</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